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0D4F-99E1-4E95-BDD8-8BB0E098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2D43-AA08-49A2-B518-2DE9A04A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CF71-81F7-4A6A-89DC-186F189E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6B45-16A1-4FB8-B1B3-4B964BED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6C71-7663-4041-B9E1-AB960E50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56BC-5628-4AB0-9320-B42C1873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7291-383C-4D9A-98D8-F883DC28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F923-8FC6-4213-84E3-A09FA9EE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7DA9-F00D-41C2-BD93-1B0DD28E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2050-5A73-441C-BFD2-BF95A5D5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BD7E-EE93-46A3-8A32-5F16BEBE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81CC-4C79-4998-9578-1DD1EAA1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CCB7-B49D-4945-9DBD-4C524D10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2F2D-40AA-4283-A536-D35E84E2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EA39-73F7-4543-9236-FABE35C1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903F-82DB-49FD-9C89-691C14AB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2E1B-F79A-400F-BE71-03725A20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C3D-F312-426E-8BB7-684F1E72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373-8FF4-439F-B11C-6CCF663D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7549-1AD6-44BC-B559-FA6DD41A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BF3-857F-49EE-A18C-0E377850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B9D-435D-4CB6-9FF3-639C0DA1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4D7A-7D52-4BB9-ABEC-B2D6FA11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355D-3707-44F4-86BA-9C10FA30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ihand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ihand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Gruppieren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ihand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Freihand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50e0ea"/>
                </a:solidFill>
                <a:latin typeface="Calibri"/>
              </a:rPr>
              <a:t>Titelmasterformat durch Klicken bearbeiten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835EE1-95BA-49D9-A081-EE470EF1792E}" type="slidenum">
              <a:rPr b="0" lang="de-DE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de-DE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ihand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reihand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uppieren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Freihand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Freihand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Titelmasterformat durch Klicken bearbeiten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Textmasterformate durch Klicken bearbeit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Zweite Ebene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Dritte Ebene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Vierte Ebene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Fünfte Ebene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604C31-9EFD-476A-9757-CAB4A18881DC}" type="slidenum">
              <a:rPr b="0" lang="de-DE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50e0ea"/>
                </a:solidFill>
                <a:latin typeface="Calibri"/>
              </a:rPr>
              <a:t>Wälzlager und Wälzlagerungen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5538240" cy="3567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30.10.10                                                                            Marco Ruschmey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071360" y="3571920"/>
            <a:ext cx="2142720" cy="2333160"/>
          </a:xfrm>
          <a:prstGeom prst="rect">
            <a:avLst/>
          </a:prstGeom>
          <a:ln w="9525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5715000" y="3500280"/>
            <a:ext cx="2428560" cy="2428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243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Times New Roman"/>
              </a:rPr>
              <a:t>Schmierungsarten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mierfet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Öl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estschmierstoff (Sonderfall)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Art der Schmierung richtet sich nach Höhe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r Drehzahl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r Beanspruch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r Betriebstemperatu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Vor dem Entwurf muss sich für die Schmierungsart entschieden werd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5768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Bezeichnung von Wälzlagern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" name="Inhaltsplatzhalter 3" descr="Wälzlagerbezeichnung.jpg"/>
          <p:cNvPicPr/>
          <p:nvPr/>
        </p:nvPicPr>
        <p:blipFill>
          <a:blip r:embed="rId1"/>
          <a:srcRect l="0" t="6851" r="-219" b="0"/>
          <a:stretch/>
        </p:blipFill>
        <p:spPr>
          <a:xfrm>
            <a:off x="285840" y="1285920"/>
            <a:ext cx="4285800" cy="51433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4714920" y="957600"/>
            <a:ext cx="4142880" cy="5851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illenkugellager (DIN 62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chrägkugellager (DIN 62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chulterkugellager (DIN 61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endelkugellager (DIN 63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xialrillenkugellager (DIN 711, 71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Zylinderrollenlager (DIN 54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egelrollenlager (DIN 7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onnen- und Pendelrollenlager (DIN 63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xial- Pendelrollenlager (DIN 7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Nadellager (DIN 617)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ETB S.2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240" cy="49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600" spc="-1" strike="noStrike" u="sng">
                <a:solidFill>
                  <a:srgbClr val="000000"/>
                </a:solidFill>
                <a:uFillTx/>
                <a:latin typeface="Constantia"/>
              </a:rPr>
              <a:t>Bei der Bezeichnung der Bohrung (Bohrungskennzahl- BKZ) gibt es noch folgendes zu Beachten:</a:t>
            </a:r>
            <a:r>
              <a:rPr b="0" lang="de-DE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Die Bohrungskennzahlen 00, 01, 02 und 03 entsprechen in Reihenfolge den Bohrungsdurchmessern 10, 12, 15 und 17 mm. </a:t>
            </a:r>
            <a:endParaRPr b="0" lang="de-DE" sz="22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Für die Bohrungsdurchmesser 20 bis 480 mm errechnet sich die Bohrungskennzahl wie folgt: Durchmesser der Bohrung geteilt durch 5 (bis Durchmesser 45 mm wird vor die Bohrungskennzahl eine 0 gesetzt). </a:t>
            </a:r>
            <a:endParaRPr b="0" lang="de-DE" sz="22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Die Bohrungsdurchmesser 0,9 bis 9 mm werden unmittelbar an das Zeichen der Lagerreihe angefügt. </a:t>
            </a:r>
            <a:endParaRPr b="0" lang="de-DE" sz="22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Die Bohrungsdurchmesser 22, 28, 32 und größer als 500 mm werden durch Schrägstrich getrennt an das Zeichen der Lagerreihe angefügt.</a:t>
            </a:r>
            <a:endParaRPr b="0" lang="de-DE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nhaltsplatzhalter 10" descr="Wälzlagerbezeichnung skf.jpg"/>
          <p:cNvPicPr/>
          <p:nvPr/>
        </p:nvPicPr>
        <p:blipFill>
          <a:blip r:embed="rId1"/>
          <a:stretch/>
        </p:blipFill>
        <p:spPr>
          <a:xfrm>
            <a:off x="1357200" y="1071720"/>
            <a:ext cx="6071760" cy="52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Übung zur Wälzlagerbezeichnung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a) Nennen Sie die Bezeichnung für ein Lager der Lagerart 3, aus nicht rostendem 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hl, Breitenreihe 0, Durchmesserreihe 3, Bohrungskennzahl 15.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ös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egelrollenlager DIN 720 – S 30315</a:t>
            </a:r>
            <a:endParaRPr b="0" lang="de-DE" sz="1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b) Nennen Sie den dazugehörigen Innen- und Außendurchmesser, sowie die Breite T des Lagers.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ös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 = 75mm , D = 160mm , T = 40mm</a:t>
            </a:r>
            <a:endParaRPr b="0" lang="de-DE" sz="1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Entschlüsseln Sie die Bezeichnung 22215 C2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ös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endelrollenlager DIN 635 , Lagerart 2, Breitenreihe 2, Durchmesserreihe 2, BKZ 15, C2 = verringerte Lagerluft, d=75mm, D=130, B=31</a:t>
            </a:r>
            <a:endParaRPr b="0" lang="de-DE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Auswahl der Wälzlager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4" name="Inhaltsplatzhalter 3" descr="Wälzlager Auswahl.jpg"/>
          <p:cNvPicPr/>
          <p:nvPr/>
        </p:nvPicPr>
        <p:blipFill>
          <a:blip r:embed="rId1"/>
          <a:stretch/>
        </p:blipFill>
        <p:spPr>
          <a:xfrm>
            <a:off x="714240" y="2000160"/>
            <a:ext cx="76435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071360" y="1842840"/>
            <a:ext cx="7000560" cy="3557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28760" y="785880"/>
            <a:ext cx="8229240" cy="41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Rillenkugel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vielseitig einsetzbar deshalb werden sie immer als erste Wahl genomm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einfach im Aufbau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für hohe bis sehr hohe Drehzahlen geeigne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unempfindlich in Betrieb und Wart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Tiefe Laufrillen u. enge Schmiegung  (dadurch Radial- und Axialbelast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leichzeitig möglich)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am häufigsten verwendetes 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Schiefstellung = 2-10 Winkelminuten (0,03°-0,167°)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Druckwinkel   0°- 45°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7" name="Inhaltsplatzhalter 3" descr="Wälzlager Auswahl.jpg"/>
          <p:cNvPicPr/>
          <p:nvPr/>
        </p:nvPicPr>
        <p:blipFill>
          <a:blip r:embed="rId1"/>
          <a:srcRect l="1872" t="43757" r="84113" b="29674"/>
          <a:stretch/>
        </p:blipFill>
        <p:spPr>
          <a:xfrm>
            <a:off x="3143160" y="4572000"/>
            <a:ext cx="1785600" cy="202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5357880" y="4500720"/>
            <a:ext cx="2928600" cy="219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24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chrägkugel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Lager für kombinierte Belastung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axiale Tragfähigkeit nimmt mit der Größe des Berührungswinkels zu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Berührungswinkel 40°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Druckwinkel 15°- 45°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axiale Tragfähigkeit nur in eine Richtung außer bei O- und X-Anordn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2000160" y="4071960"/>
            <a:ext cx="5123880" cy="2139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00040" y="785880"/>
            <a:ext cx="8229240" cy="52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endelkugel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hohlkugelige gemeinsame Laufbahn im Außenring, dadurch sind Schiefstellung  je nach Lagerreihe von 1,5°-3° möglich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Pendelkugellager weisen die kleinste Reibung unter allen Lagern auf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Pendelkugellager gibt es mit zyl. und kegeliger Bohrung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Zylinderrollen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verschiedene Ausführungen an den Innen- und Außenringen                         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Schiefstellung 3-4 Winkelminut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zwang freie axiale Verschiebbarkei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Inhaltsplatzhalter 3" descr="Wälzlager Auswahl.jpg"/>
          <p:cNvPicPr/>
          <p:nvPr/>
        </p:nvPicPr>
        <p:blipFill>
          <a:blip r:embed="rId1"/>
          <a:srcRect l="1872" t="70326" r="83181" b="3105"/>
          <a:stretch/>
        </p:blipFill>
        <p:spPr>
          <a:xfrm>
            <a:off x="857160" y="2786040"/>
            <a:ext cx="1571400" cy="1669680"/>
          </a:xfrm>
          <a:prstGeom prst="rect">
            <a:avLst/>
          </a:prstGeom>
          <a:ln w="0">
            <a:noFill/>
          </a:ln>
        </p:spPr>
      </p:pic>
      <p:pic>
        <p:nvPicPr>
          <p:cNvPr id="133" name="Inhaltsplatzhalter 3" descr="Wälzlager Auswahl.jpg"/>
          <p:cNvPicPr/>
          <p:nvPr/>
        </p:nvPicPr>
        <p:blipFill>
          <a:blip r:embed="rId2"/>
          <a:srcRect l="16819" t="43757" r="68226" b="29674"/>
          <a:stretch/>
        </p:blipFill>
        <p:spPr>
          <a:xfrm>
            <a:off x="7143840" y="4857840"/>
            <a:ext cx="17856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240" cy="7243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Übersicht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24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nwendungsbereiche der Wälz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ufgaben und Wirkprinzip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or- und Nachteile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Lagerluf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mierungsart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zeichnung von Wälzlager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Übung zu der Bezeichnung von Wälzlager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uswahl der Wälzlager und Einteilung der 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ichtige Kriterien für den Entwurf der Lager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rläuterung von Punkt- und Umfangslas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mel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rechnungsaufgab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00040" y="8571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Kegelrollen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-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adiale- und axiale Belastung möglich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-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e größer der Berührungswinkel desto höhere Axialbelast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-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it zyl. u keg. Bohrung sowie Metr. u. Zollabmessungen erhältlich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endelrollen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das Pendelrollenlager hat eine höhere radiale Belastbarkeit als das Pendelkugellager aufgrund der höheren Auflagefläche der Wälzkörp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Inhaltsplatzhalter 3" descr="Wälzlager Auswahl.jpg"/>
          <p:cNvPicPr/>
          <p:nvPr/>
        </p:nvPicPr>
        <p:blipFill>
          <a:blip r:embed="rId1"/>
          <a:srcRect l="50466" t="43757" r="35511" b="29674"/>
          <a:stretch/>
        </p:blipFill>
        <p:spPr>
          <a:xfrm>
            <a:off x="928800" y="2357280"/>
            <a:ext cx="1285560" cy="145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3786120" y="4786200"/>
            <a:ext cx="2071440" cy="2071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928880" y="1285920"/>
            <a:ext cx="5381280" cy="500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28760" y="642960"/>
            <a:ext cx="8229240" cy="60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66400" indent="-26640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CARB Toroidalrollen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Es vereinigt die Winkelbeweglichkeit des Pendelrollenlagers mit der zwangfreien axialen Verschiebbarkeit des Zylinderrollenlagers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s bietet den Vorteil der kompakten Bauweise. Sehr großen Belastungsbereich, dadurch kl. u. leichtere Lagerungen bei gleicher Belastung möglich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ür Loslagerungen bestimm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ann Schiefstellung und Axialverschiebungen gleichzeitig ausgleich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as Lager kann Größe, Gewicht und Herstellkosten von Maschinen reduzier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Lagerluft ist einstellbar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alschwingungen der Welle werden nicht ins Gehäuse übertrag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ufbahnprofile stellen gute Spannungsverteilung im Lager und reibungsarmen Lauf sicher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aben selbsteinstellende Eigenschaft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sehr teuer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RK=60€,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ZR=130€,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CARB= 230€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nhaltsplatzhalter 11" descr="Fest-und Loslager.jpg"/>
          <p:cNvPicPr/>
          <p:nvPr/>
        </p:nvPicPr>
        <p:blipFill>
          <a:blip r:embed="rId1"/>
          <a:stretch/>
        </p:blipFill>
        <p:spPr>
          <a:xfrm>
            <a:off x="1071360" y="1785960"/>
            <a:ext cx="6970680" cy="32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00040" y="1143000"/>
            <a:ext cx="822924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xial-Rillenkugellager und Axial-Zylinderrollen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inseitig wirkend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eine radiale Belastung zulässi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iefstellung wird ermöglicht durch kugelig ausgeführter Gehäusescheibe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weireihige Lager sind beidseitig wirkend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al-Zylinderrollenlager sind stoßunempfindlicher und steifer bei relativ geringen axialem Platzbedarf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1" name="Inhaltsplatzhalter 3" descr="Wälzlager Auswahl.jpg"/>
          <p:cNvPicPr/>
          <p:nvPr/>
        </p:nvPicPr>
        <p:blipFill>
          <a:blip r:embed="rId1"/>
          <a:srcRect l="68226" t="43757" r="1872" b="3105"/>
          <a:stretch/>
        </p:blipFill>
        <p:spPr>
          <a:xfrm>
            <a:off x="6215040" y="1571760"/>
            <a:ext cx="22856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821484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gergehäuseeinheit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ehlager ermöglichen                                                        und gleichen Fluchtungs- 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fache Montage und                                                        und Winkelfehler aus.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montage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lanschlager haben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ele Vorteile in der 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onstruktion, Fertigung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ontage und Wartung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oßer elektrischer 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schinen.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3143160" y="1285920"/>
            <a:ext cx="2857320" cy="2857320"/>
          </a:xfrm>
          <a:prstGeom prst="rect">
            <a:avLst/>
          </a:prstGeom>
          <a:ln w="9525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3000240" y="3714840"/>
            <a:ext cx="2857320" cy="2857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785880"/>
            <a:ext cx="822924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ugelbuchs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071880" y="2500200"/>
            <a:ext cx="3071520" cy="253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24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200" spc="-1" strike="noStrike">
                <a:solidFill>
                  <a:srgbClr val="04617b"/>
                </a:solidFill>
                <a:latin typeface="Calibri"/>
              </a:rPr>
              <a:t>Wichtige Kriterien für den Entwurf der Lagerung</a:t>
            </a:r>
            <a:endParaRPr b="0" lang="de-DE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240" cy="52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gerart und Lageranordn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iebbarkei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gerbelastung                            P = X * Fr + Y * Fa          RM TB 14-3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Ermittlung ob Punkt-                                                           RM FS 14.9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der Umfangslast vorliegt).                                                RM ME S.501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agfähigkeit, Steifigkei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ominelle Lebensdauer              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ıo = (C/P)ᴾ oder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ıoh = 10   * Lıo / 60 * n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RM FS 14.5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rehzahl  /     Drehzahlfaktor     fn nach TB 14-4 fn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͌  0,5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˪= C/P*fn                          RM FS 14.6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ib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mierung und Abdicht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Inhaltsplatzhalter 3" descr="dyn. äqu. Beanspruchung.jpg"/>
          <p:cNvPicPr/>
          <p:nvPr/>
        </p:nvPicPr>
        <p:blipFill>
          <a:blip r:embed="rId1"/>
          <a:stretch/>
        </p:blipFill>
        <p:spPr>
          <a:xfrm>
            <a:off x="1643040" y="1071720"/>
            <a:ext cx="5581800" cy="49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243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Times New Roman"/>
              </a:rPr>
              <a:t>Punkt- und Umfangslast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240" cy="24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unktlast: Ring steht relativ zur Lastrichtung still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Umfangslast: Der Ring läuft relativ zur Lastrichtung um, d.h. während einer Umdrehung wird der ganze Umfang des Ringes belastet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ing mit UL würde bei losem Sitz wandern. Dies kann zu Beschädigung der Sitzflächen führ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2" name="Grafik 3" descr="Lagerung eines Kranlaufrades.jpg"/>
          <p:cNvPicPr/>
          <p:nvPr/>
        </p:nvPicPr>
        <p:blipFill>
          <a:blip r:embed="rId1"/>
          <a:stretch/>
        </p:blipFill>
        <p:spPr>
          <a:xfrm>
            <a:off x="3500280" y="3714840"/>
            <a:ext cx="41371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0101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4000" spc="-1" strike="noStrike">
                <a:solidFill>
                  <a:srgbClr val="04617b"/>
                </a:solidFill>
                <a:latin typeface="Calibri"/>
              </a:rPr>
              <a:t>Definition von Wälzlager</a:t>
            </a:r>
            <a:endParaRPr b="0" lang="de-DE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0040" y="2714760"/>
            <a:ext cx="8229240" cy="29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älzlager sind Lager, bei denen zwei zueinander  bewegliche Komponenten   (Innenring sowie Außenring) durch rollende Körper getrennt sind. Sie dienen als Fest- oder Loslager zur Fixierung von Achsen und Wellen. 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Formeln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4" name="Inhaltsplatzhalter 5" descr="Formel1.jpg"/>
          <p:cNvPicPr/>
          <p:nvPr/>
        </p:nvPicPr>
        <p:blipFill>
          <a:blip r:embed="rId1"/>
          <a:stretch/>
        </p:blipFill>
        <p:spPr>
          <a:xfrm>
            <a:off x="785880" y="1928880"/>
            <a:ext cx="2714400" cy="1772280"/>
          </a:xfrm>
          <a:prstGeom prst="rect">
            <a:avLst/>
          </a:prstGeom>
          <a:ln w="0">
            <a:noFill/>
          </a:ln>
        </p:spPr>
      </p:pic>
      <p:pic>
        <p:nvPicPr>
          <p:cNvPr id="155" name="Grafik 6" descr="Hinweis1.jpg"/>
          <p:cNvPicPr/>
          <p:nvPr/>
        </p:nvPicPr>
        <p:blipFill>
          <a:blip r:embed="rId2"/>
          <a:stretch/>
        </p:blipFill>
        <p:spPr>
          <a:xfrm>
            <a:off x="928800" y="4643280"/>
            <a:ext cx="5238720" cy="437760"/>
          </a:xfrm>
          <a:prstGeom prst="rect">
            <a:avLst/>
          </a:prstGeom>
          <a:ln w="0">
            <a:noFill/>
          </a:ln>
        </p:spPr>
      </p:pic>
      <p:sp>
        <p:nvSpPr>
          <p:cNvPr id="156" name="Textfeld 7"/>
          <p:cNvSpPr/>
          <p:nvPr/>
        </p:nvSpPr>
        <p:spPr>
          <a:xfrm>
            <a:off x="4578840" y="2714760"/>
            <a:ext cx="130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M FS 1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Times New Roman"/>
              </a:rPr>
              <a:t>Berechnungsaufgabe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2924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. Radialkraft Fr = 5 KN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xialkraft  Fa = 2 KN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rehzahl    n  = 250 min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̄ ˡ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illenkugellager Lagerreihe 62, Bohrungskennzahl 09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ynamische Tragzahl nach RM TB 14-2 C =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sche Tragzahl nach RM TB 14-2 Cₒ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s.  Äquivalente Lagerbelastung P              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ormeln: Fa/C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ₒ            in TB 14-3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a/Fr            in TB 14-3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 = X * Fr + Y * Fa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s.  die nominelle Lebensdauer L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ıoh                          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. ᴾ = 3 für Kugellager  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ıoh = 10   * Lıo / 60 * n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ıo = (C/P)ᴾ                               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Textfeld 3"/>
          <p:cNvSpPr/>
          <p:nvPr/>
        </p:nvSpPr>
        <p:spPr>
          <a:xfrm>
            <a:off x="6716520" y="5643720"/>
            <a:ext cx="2451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8672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Times New Roman"/>
              </a:rPr>
              <a:t>Berechnungsaufgabe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1" name="Inhaltsplatzhalter 3" descr=""/>
          <p:cNvPicPr/>
          <p:nvPr/>
        </p:nvPicPr>
        <p:blipFill>
          <a:blip r:embed="rId1"/>
          <a:stretch/>
        </p:blipFill>
        <p:spPr>
          <a:xfrm>
            <a:off x="4214880" y="1857240"/>
            <a:ext cx="4264560" cy="4389120"/>
          </a:xfrm>
          <a:prstGeom prst="rect">
            <a:avLst/>
          </a:prstGeom>
          <a:ln w="9525">
            <a:noFill/>
          </a:ln>
        </p:spPr>
      </p:pic>
      <p:sp>
        <p:nvSpPr>
          <p:cNvPr id="162" name="Textfeld 4"/>
          <p:cNvSpPr/>
          <p:nvPr/>
        </p:nvSpPr>
        <p:spPr>
          <a:xfrm>
            <a:off x="364320" y="1857240"/>
            <a:ext cx="2057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eignete Wälzl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1143000"/>
            <a:ext cx="822924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6000" spc="-1" strike="noStrike">
                <a:solidFill>
                  <a:srgbClr val="04617b"/>
                </a:solidFill>
                <a:latin typeface="Calibri"/>
              </a:rPr>
              <a:t>Vielen Dank </a:t>
            </a:r>
            <a:br>
              <a:rPr sz="5000"/>
            </a:br>
            <a:br>
              <a:rPr sz="5000"/>
            </a:b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für die </a:t>
            </a:r>
            <a:br>
              <a:rPr sz="5000"/>
            </a:br>
            <a:br>
              <a:rPr sz="5000"/>
            </a:br>
            <a:r>
              <a:rPr b="0" lang="de-DE" sz="6000" spc="-1" strike="noStrike">
                <a:solidFill>
                  <a:srgbClr val="04617b"/>
                </a:solidFill>
                <a:latin typeface="Calibri"/>
              </a:rPr>
              <a:t>Aufmerksamkeit</a:t>
            </a:r>
            <a:endParaRPr b="0" lang="de-DE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Anwendungsbereiche von Wälzlagern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Wälzlager werden bevorzugt für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1.    möglichst wartungsfreie und betriebssichere Lagerungen bei normalen Anforderung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2.   Lagerungen, die aus dem Stillstand und bei kleinen Drehzahlen und hohen Belastungen reibungsarm arbeiten sollen, sowie bei sich ändernden Drehzahl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Aufgaben und Wirkprinzip der Lager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Lager sollen dreh-(bewegliche) Teile in Maschinen  und Gerät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- abstützen,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- führ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- und wirkende äußere Kräfte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( quer, längs und/oder schräg zur Bewegungsachse)    aufnehm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Wellen u. Achsen möglichst zweifach lagern, damit die Reaktionskräfte statisch bestimmbar sind 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nhaltsplatzhalter 3" descr="Wirkprinzipien bei Lagern.jpg"/>
          <p:cNvPicPr/>
          <p:nvPr/>
        </p:nvPicPr>
        <p:blipFill>
          <a:blip r:embed="rId1"/>
          <a:stretch/>
        </p:blipFill>
        <p:spPr>
          <a:xfrm>
            <a:off x="1000080" y="1928880"/>
            <a:ext cx="7286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Vor- und Nachteile von Wälzlagern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240" cy="50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0000"/>
          </a:bodyPr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-2347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Vorteile 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1. geringe Reibung (Anlaufmoment kaum größer als das Betriebsmoment durch kleine Berührungsflächen), daher  geringe Wärmeentwicklung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2. kein Ruckgleiten (Stick-Slip-Effekt)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3. geringer Schmierstoffverbrauch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4. kaum Pflege und Wartung notwendig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5. gute Normung und Bemessungsgrundlagen, deswegen gut austauschbar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6. keine Einlaufzeit notwendig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-2347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Nachteile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1. bei Stillstand und geringer Drehzahl empfindlich gegen Stöße und Erschütterung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2. begrenzte Höchstdrehzahl und Lebensdauer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3. Verschmutzungsempfindlichkeit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4. aufwendige Bauweise im Vergleich zu Gleitlager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5. höhere Geräuschentwicklung gegenüber Gleitlager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0040" y="857160"/>
            <a:ext cx="822924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Lagerluft hat allgemein Auswirkungen auf die Geräuschentwicklung, Vibrationen, Wärmeentwicklung und Lebensdauer.                                        Die axiale Lagerluft ist 8,5-10 fach so groß wie die radiale Lagerluft                                              (bei normaler Lagerluft/Kugellagern)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Die Lagerluft ist gewollt, denn sie soll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i zu festem Einbau den optimalen Abstand der Wälzkörper zu Innen- und Außenring bewahr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i unterschiedlicher Wärmeausdehnung des Innen- und Außenrings ebenfalls einen ausreichenden Abstand behalten.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Die Lagerluft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4497840" cy="3142800"/>
          </a:xfrm>
          <a:prstGeom prst="rect">
            <a:avLst/>
          </a:prstGeom>
          <a:ln w="9525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6500880" y="4786200"/>
            <a:ext cx="1238040" cy="108540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11" name="Tabelle 5"/>
          <p:cNvGraphicFramePr/>
          <p:nvPr/>
        </p:nvGraphicFramePr>
        <p:xfrm>
          <a:off x="428760" y="4143240"/>
          <a:ext cx="4500360" cy="3178440"/>
        </p:xfrm>
        <a:graphic>
          <a:graphicData uri="http://schemas.openxmlformats.org/drawingml/2006/table">
            <a:tbl>
              <a:tblPr/>
              <a:tblGrid>
                <a:gridCol w="900000"/>
                <a:gridCol w="3600360"/>
              </a:tblGrid>
              <a:tr h="32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uftgruppe: Radiale Lagerluft kleiner als nor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uftgruppe: Radiale Lagerluft ist größer als normal. Aus Bestand ist C3 für viele Typen lieferba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wendung z.B. bei stark erwärmtem Lager, für das wg. Wärmedehnung ein noch ausreichendes Spiel im Betrieb nötig ist. Bei kleinen Rillenkugellagern bedeutet C3 etwa 1/100 mm höhere Lagerluf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uftgruppe: Radiale Lagerluft noch größer als C3. Falls in C4 nicht lieferbar, können Lager ggf. auf C4 umgeschliffen werde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hteck 6"/>
          <p:cNvSpPr/>
          <p:nvPr/>
        </p:nvSpPr>
        <p:spPr>
          <a:xfrm>
            <a:off x="283320" y="4357800"/>
            <a:ext cx="2480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e-DE" sz="1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nstantia"/>
              </a:rPr>
              <a:t>CN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Constantia"/>
              </a:rPr>
              <a:t>Lagerluft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feld 7"/>
          <p:cNvSpPr/>
          <p:nvPr/>
        </p:nvSpPr>
        <p:spPr>
          <a:xfrm>
            <a:off x="3997080" y="928800"/>
            <a:ext cx="2073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e-DE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nstantia"/>
              </a:rPr>
              <a:t>durch Lagerlu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Hyperion">
  <a:themeElements>
    <a:clrScheme name="Hyperion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Hyperion">
  <a:themeElements>
    <a:clrScheme name="Hyperion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0</TotalTime>
  <Application>LibreOffice/7.4.7.2$Linux_X86_64 LibreOffice_project/40$Build-2</Application>
  <AppVersion>15.0000</AppVersion>
  <Words>1391</Words>
  <Paragraphs>2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0:11:05Z</dcterms:created>
  <dc:creator>Marco Ruschmeyer</dc:creator>
  <dc:description/>
  <dc:language>en-US</dc:language>
  <cp:lastModifiedBy>Marco Ruschmeyer</cp:lastModifiedBy>
  <dcterms:modified xsi:type="dcterms:W3CDTF">2010-10-29T18:58:25Z</dcterms:modified>
  <cp:revision>169</cp:revision>
  <dc:subject/>
  <dc:title>Wälzlager und Wälzlagerung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Bildschirmpräsentation (4:3)</vt:lpwstr>
  </property>
  <property fmtid="{D5CDD505-2E9C-101B-9397-08002B2CF9AE}" pid="3" name="Slides">
    <vt:r8>33</vt:r8>
  </property>
</Properties>
</file>